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CE3C-607B-4E36-8E4A-E082F6649780}" type="datetime">
              <a:rPr b="0" lang="zh-CN" sz="1200" spc="-1" strike="noStrike">
                <a:solidFill>
                  <a:srgbClr val="000000"/>
                </a:solidFill>
                <a:latin typeface="Times New Roman"/>
                <a:ea typeface="Arial"/>
              </a:rPr>
              <a:t>26/7/30</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D812-2AB6-457C-865E-CE0F466C2BB9}"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E582-3FF1-4A43-B242-33778A33D9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0B4F4-E9D5-4C38-ACE4-E792C6ECE4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AD6B94-6E3B-4B5D-8EF7-0153F9A83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0F570D-C7AE-4E7D-A28E-E7EE83934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79C2A2-1365-40A9-B052-0A56D24F5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9D373E-2E47-497C-93A0-7C85DFC5F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F4A01B-4EB9-4FC5-9997-E8C5F54E4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37C47-2905-4AAB-9AB5-156AAD6F6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4F05B-5A27-4A23-8C3A-024681969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8FE3E2-2B48-449C-A335-CCDFEDF8E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2DDCE-F983-4174-B6B8-737D3208A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17B12B-9673-4D37-B24E-EDF5ED59A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CC6F4-005C-4466-ACA1-F388F67B4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6A7F6-9041-4034-9041-30D9FC434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8D27E-0BAC-4F2C-AA90-05134DE6A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1B0AD-9CE5-471D-9988-8F59C9E4E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D1B3E-3EA7-40FD-A6DD-7E1CB6305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64C342-DD44-4EDD-ADF6-16A1D154A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57D82-0A71-40C9-A70E-FCE38842E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F58372-1D9A-4026-963C-6699DCB79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A4C276-A642-4144-9D36-C5E8FEB76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E8B7A6-6B68-48F4-B634-BA412C04C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BEE860-BCB4-42B5-9908-F668DA301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2A0674-0562-4EC6-9407-96A7D9985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90CC07-1B60-478B-8614-98ADF7F61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15C3-2B51-45C0-AA86-D25AD98F9B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6D20-02CC-48CC-A95B-E454EDE7EEC3}"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